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035-BDC5-4489-B0A6-AD102B03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434-3B4C-4E37-B226-F590F55E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573-B4C7-4BA3-897D-0D4B03AB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AC8-FF24-4712-AABB-7F2538BB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800-800E-472B-8AAD-2C58EF1C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06A-67BE-4EC0-899C-8B630449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F7E-5C3E-451F-A93E-92889EF1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FAF-0A24-4CBA-B20E-CE35203A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B83-D14F-499B-B39D-DA567304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12F-22E3-4A90-A647-B2760CB8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CCF-277B-4720-BE20-6D21AC55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2F5-CBD7-4CDD-90F9-FA3F18AD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CE6A-8CE8-4838-B078-B228EB07C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191200" y="1440"/>
            <a:ext cx="4714920" cy="6621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2840" cy="662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4714920" cy="66214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91200" y="0"/>
            <a:ext cx="4714920" cy="66214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2840" y="0"/>
            <a:ext cx="468360" cy="66214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91200" y="635040"/>
            <a:ext cx="47592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llgäu</a:t>
            </a:r>
            <a:br>
              <a:rPr sz="3200"/>
            </a:b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Juli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in Film v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ilvedi Fi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mic Sans MS"/>
              </a:rPr>
              <a:t>Copyright © Silvedi Film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7680" y="3795840"/>
            <a:ext cx="3703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lmformat: 16: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rstellt auf DVD+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236600" y="4923000"/>
            <a:ext cx="2068560" cy="1371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5400000">
            <a:off x="1645920" y="3051720"/>
            <a:ext cx="66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gäu Juli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23:45:49Z</dcterms:created>
  <dc:creator>Edmond P. Pellet</dc:creator>
  <dc:description/>
  <dc:language>en-US</dc:language>
  <cp:lastModifiedBy>Edmond P. Pellet</cp:lastModifiedBy>
  <dcterms:modified xsi:type="dcterms:W3CDTF">2005-03-13T11:30:11Z</dcterms:modified>
  <cp:revision>4</cp:revision>
  <dc:subject/>
  <dc:title>Folie 1</dc:title>
</cp:coreProperties>
</file>